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A04-687F-47B7-B7CB-62433F43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F05-945E-4240-93CB-BF574B69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F32-1C73-477C-BFDE-4B04C812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5AA-82FD-4363-B693-796167D9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F7FA-8B01-4C6B-B4A2-965E36B6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779F-DC58-4931-BBC0-79FFDF2E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60E2-72B6-418C-A0E3-4975F95C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5E06-0E24-492F-BE8D-DB296091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761B-826E-4050-A095-6E324A2D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5E1-2B5C-44D7-BB99-AED04C4B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2AFD-89E3-42BA-A4D3-497E3DE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4A2-94E7-4D2F-9BF2-32D1A79D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CE6C-AAE0-4639-A830-63FB48E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039E-95E3-4B31-AAC3-9D21B74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CB1F-19D3-4B98-8D30-57D051E8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C634-CF84-4914-9C13-E4F359CE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F56F-FEEE-49BF-BB3F-74303A1A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516-5271-4A3C-BB35-5808707E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CA4-5353-46DA-BAEC-0B5B2AD1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FDB-1C6B-4593-AB66-4D79FA96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057-CFE7-431C-94CD-EC9DADD9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6E0-C806-4914-A679-389FCAD4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EA9-0332-4EEC-BA88-D38843D1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3EA-73BA-43A4-8B41-01D28A3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9F2024-C2A9-4432-836E-5BD8842CDDF8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958CED-46DE-417A-ADF6-5BF14C78DA3F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9600" spc="-1" strike="noStrike">
                <a:solidFill>
                  <a:srgbClr val="10243e"/>
                </a:solidFill>
                <a:latin typeface="Calibri"/>
              </a:rPr>
              <a:t>KIJIJ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Canada’s #1 Free Online Classifie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3200040" cy="37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thinking.jpg"/>
          <p:cNvPicPr/>
          <p:nvPr/>
        </p:nvPicPr>
        <p:blipFill>
          <a:blip r:embed="rId1"/>
          <a:stretch/>
        </p:blipFill>
        <p:spPr>
          <a:xfrm>
            <a:off x="4267080" y="2362320"/>
            <a:ext cx="4420440" cy="28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09520" cy="37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hat is Kiji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ast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urpose and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ommunity.jpg"/>
          <p:cNvPicPr/>
          <p:nvPr/>
        </p:nvPicPr>
        <p:blipFill>
          <a:blip r:embed="rId1"/>
          <a:stretch/>
        </p:blipFill>
        <p:spPr>
          <a:xfrm>
            <a:off x="4495680" y="224784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495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st of memb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eedom of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rg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id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No Cost.jpg"/>
          <p:cNvPicPr/>
          <p:nvPr/>
        </p:nvPicPr>
        <p:blipFill>
          <a:blip r:embed="rId1"/>
          <a:stretch/>
        </p:blipFill>
        <p:spPr>
          <a:xfrm>
            <a:off x="914400" y="2590920"/>
            <a:ext cx="260388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ck of personal interaction between administrator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alse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au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CreditCardFraud.jpg"/>
          <p:cNvPicPr/>
          <p:nvPr/>
        </p:nvPicPr>
        <p:blipFill>
          <a:blip r:embed="rId1"/>
          <a:stretch/>
        </p:blipFill>
        <p:spPr>
          <a:xfrm>
            <a:off x="4800600" y="3581280"/>
            <a:ext cx="3501000" cy="26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Verification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Encourage different paymen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Other safety t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bbq.jpg"/>
          <p:cNvPicPr/>
          <p:nvPr/>
        </p:nvPicPr>
        <p:blipFill>
          <a:blip r:embed="rId1"/>
          <a:stretch/>
        </p:blipFill>
        <p:spPr>
          <a:xfrm>
            <a:off x="5791320" y="1621080"/>
            <a:ext cx="2504160" cy="226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Reason for exis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iverse selection of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mprom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ollow safety ti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nvenience outweighs th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balance-scale.jpg"/>
          <p:cNvPicPr/>
          <p:nvPr/>
        </p:nvPicPr>
        <p:blipFill>
          <a:blip r:embed="rId1"/>
          <a:stretch/>
        </p:blipFill>
        <p:spPr>
          <a:xfrm>
            <a:off x="6705720" y="2133720"/>
            <a:ext cx="1828440" cy="12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133720" y="2514600"/>
            <a:ext cx="518112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21"/>
              </a:spcBef>
              <a:buNone/>
              <a:tabLst>
                <a:tab algn="l" pos="0"/>
              </a:tabLst>
            </a:pPr>
            <a:r>
              <a:rPr b="0" lang="en-CA" sz="8600" spc="-1" strike="noStrike">
                <a:solidFill>
                  <a:srgbClr val="d9d9d9"/>
                </a:solidFill>
                <a:latin typeface="Calibri"/>
              </a:rPr>
              <a:t>Thank You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  <Words>88</Words>
  <Paragraphs>42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3:03Z</dcterms:created>
  <dc:creator>Brett</dc:creator>
  <dc:description/>
  <dc:language>en-US</dc:language>
  <cp:lastModifiedBy>Michelle Mah</cp:lastModifiedBy>
  <dcterms:modified xsi:type="dcterms:W3CDTF">2008-11-26T22:07:39Z</dcterms:modified>
  <cp:revision>12</cp:revision>
  <dc:subject/>
  <dc:title>KIJI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